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09E-8591-443F-8C98-0822920C8F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1D6-DAE6-44DD-8C17-004FF3C4D60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2A5-D7EC-45A1-986C-E5FBD56A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F82-C7DB-4091-BD04-D904D68F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210-61C0-4BD4-95F0-750ACDE8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FF-F99B-4DC3-8B45-AFFD81C6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C6B-1C35-4C6F-B63D-3DAAC3C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13A-44D8-4A33-B5CE-F0C29811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7C6-7B0B-4356-80EC-55455EFE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84C-8910-43E4-8888-7DB908A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FF3-6F80-47DE-BE0E-FFB7A0E3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234-7EAF-432B-BC5B-2D925A5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BED-3899-4EF5-A37A-95882BA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5AF-A029-4145-B0C6-98796A9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F8F1-371D-4F1D-AF5F-9870E6A33F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358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Referat v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Eva-Maria Plewa, Hilde Anderse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und Christiane Waßmu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Seminar: Klinische Psycholo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Dozentin: Katharina Kuf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hteck 10" descr=""/>
          <p:cNvPicPr/>
          <p:nvPr/>
        </p:nvPicPr>
        <p:blipFill>
          <a:blip r:embed="rId1"/>
          <a:stretch/>
        </p:blipFill>
        <p:spPr>
          <a:xfrm>
            <a:off x="378000" y="1938240"/>
            <a:ext cx="795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lbstb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ft nach traumatischen Erlebni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sexuelle Übergri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öhte Wahrscheinlichkeit für Gewalterfah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C0E-8E64-47B2-B8FF-BBBB774157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Grafik 5" descr="Selbstbild.jpg"/>
          <p:cNvPicPr/>
          <p:nvPr/>
        </p:nvPicPr>
        <p:blipFill>
          <a:blip r:embed="rId1"/>
          <a:stretch/>
        </p:blipFill>
        <p:spPr>
          <a:xfrm>
            <a:off x="6429240" y="285840"/>
            <a:ext cx="1857600" cy="2307960"/>
          </a:xfrm>
          <a:prstGeom prst="rect">
            <a:avLst/>
          </a:prstGeom>
          <a:ln w="0">
            <a:noFill/>
          </a:ln>
        </p:spPr>
      </p:pic>
      <p:pic>
        <p:nvPicPr>
          <p:cNvPr id="95" name="Grafik 6" descr="Gewalt.jpg"/>
          <p:cNvPicPr/>
          <p:nvPr/>
        </p:nvPicPr>
        <p:blipFill>
          <a:blip r:embed="rId2"/>
          <a:stretch/>
        </p:blipFill>
        <p:spPr>
          <a:xfrm>
            <a:off x="5000760" y="4357800"/>
            <a:ext cx="29289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4. Persönlich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rkm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rke Wahrnehmung körperlicher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exithym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her un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g 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öhere somatische / emotional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ED3-6338-411D-949B-58E9D00C60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. Komorbiditä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 allem 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= körperliches Ä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gststör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genseiti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isikofak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D38-4721-4FD4-A3B9-20AE5A6191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feil nach unten 5"/>
          <p:cNvSpPr/>
          <p:nvPr/>
        </p:nvSpPr>
        <p:spPr>
          <a:xfrm>
            <a:off x="2071800" y="3929040"/>
            <a:ext cx="571320" cy="5716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Diagramm 7" descr=""/>
          <p:cNvPicPr/>
          <p:nvPr/>
        </p:nvPicPr>
        <p:blipFill>
          <a:blip r:embed="rId1"/>
          <a:stretch/>
        </p:blipFill>
        <p:spPr>
          <a:xfrm>
            <a:off x="3852720" y="3425760"/>
            <a:ext cx="4370400" cy="249876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8" descr="Komorbidität.jpg"/>
          <p:cNvPicPr/>
          <p:nvPr/>
        </p:nvPicPr>
        <p:blipFill>
          <a:blip r:embed="rId2"/>
          <a:stretch/>
        </p:blipFill>
        <p:spPr>
          <a:xfrm>
            <a:off x="6786720" y="428760"/>
            <a:ext cx="20714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6. Interozeption und externale Stim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oze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rzklopfen, Atmungsgeräus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xternale Stim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notone Umgeb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 Wahrnehmung und Bewertung körperlicher Missempfind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19E-D3F5-4084-AD52-C5ED19341A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feil nach rechts 5"/>
          <p:cNvSpPr/>
          <p:nvPr/>
        </p:nvSpPr>
        <p:spPr>
          <a:xfrm>
            <a:off x="642960" y="49291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Grafik 6" descr="Monotonie.jpg"/>
          <p:cNvPicPr/>
          <p:nvPr/>
        </p:nvPicPr>
        <p:blipFill>
          <a:blip r:embed="rId1"/>
          <a:stretch/>
        </p:blipFill>
        <p:spPr>
          <a:xfrm>
            <a:off x="5643720" y="2857680"/>
            <a:ext cx="1668240" cy="1890360"/>
          </a:xfrm>
          <a:prstGeom prst="rect">
            <a:avLst/>
          </a:prstGeom>
          <a:ln w="0">
            <a:noFill/>
          </a:ln>
        </p:spPr>
      </p:pic>
      <p:pic>
        <p:nvPicPr>
          <p:cNvPr id="113" name="Grafik 7" descr="herzschlag.gif"/>
          <p:cNvPicPr/>
          <p:nvPr/>
        </p:nvPicPr>
        <p:blipFill>
          <a:blip r:embed="rId2"/>
          <a:stretch/>
        </p:blipFill>
        <p:spPr>
          <a:xfrm>
            <a:off x="6786720" y="142884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. Verhaltensmerkm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end für die Aufrechterhal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on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meid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oll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767-7E78-4152-A395-C61839E580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5" descr="Pulsmessen.jpg"/>
          <p:cNvPicPr/>
          <p:nvPr/>
        </p:nvPicPr>
        <p:blipFill>
          <a:blip r:embed="rId1"/>
          <a:stretch/>
        </p:blipFill>
        <p:spPr>
          <a:xfrm>
            <a:off x="5643720" y="2857680"/>
            <a:ext cx="2031840" cy="250164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6" descr="Schwitzen.gif"/>
          <p:cNvPicPr/>
          <p:nvPr/>
        </p:nvPicPr>
        <p:blipFill>
          <a:blip r:embed="rId2"/>
          <a:stretch/>
        </p:blipFill>
        <p:spPr>
          <a:xfrm>
            <a:off x="5500800" y="2714760"/>
            <a:ext cx="2071440" cy="2762280"/>
          </a:xfrm>
          <a:prstGeom prst="rect">
            <a:avLst/>
          </a:prstGeom>
          <a:ln w="0">
            <a:noFill/>
          </a:ln>
        </p:spPr>
      </p:pic>
      <p:sp>
        <p:nvSpPr>
          <p:cNvPr id="120" name="Pfeil nach rechts 7"/>
          <p:cNvSpPr/>
          <p:nvPr/>
        </p:nvSpPr>
        <p:spPr>
          <a:xfrm>
            <a:off x="714240" y="17146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8. Zusammenwirken der Risikofakto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571680" y="6356520"/>
            <a:ext cx="77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8286840" y="6356520"/>
            <a:ext cx="39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190C-99E8-4A90-913A-5D4025C9A6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Diagramm 20" descr=""/>
          <p:cNvPicPr/>
          <p:nvPr/>
        </p:nvPicPr>
        <p:blipFill>
          <a:blip r:embed="rId1"/>
          <a:stretch/>
        </p:blipFill>
        <p:spPr>
          <a:xfrm>
            <a:off x="781200" y="3139920"/>
            <a:ext cx="77295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m 22" descr=""/>
          <p:cNvPicPr/>
          <p:nvPr/>
        </p:nvPicPr>
        <p:blipFill>
          <a:blip r:embed="rId2"/>
          <a:stretch/>
        </p:blipFill>
        <p:spPr>
          <a:xfrm>
            <a:off x="268200" y="1066680"/>
            <a:ext cx="8607600" cy="1938600"/>
          </a:xfrm>
          <a:prstGeom prst="rect">
            <a:avLst/>
          </a:prstGeom>
          <a:ln w="0">
            <a:noFill/>
          </a:ln>
        </p:spPr>
      </p:pic>
      <p:cxnSp>
        <p:nvCxnSpPr>
          <p:cNvPr id="126" name="Gerade Verbindung mit Pfeil 24"/>
          <p:cNvCxnSpPr/>
          <p:nvPr/>
        </p:nvCxnSpPr>
        <p:spPr>
          <a:xfrm flipH="1">
            <a:off x="4285440" y="2786040"/>
            <a:ext cx="25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Gerade Verbindung 26"/>
          <p:cNvSpPr/>
          <p:nvPr/>
        </p:nvSpPr>
        <p:spPr>
          <a:xfrm>
            <a:off x="1285920" y="2786040"/>
            <a:ext cx="650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Gerade Verbindung 28"/>
          <p:cNvSpPr/>
          <p:nvPr/>
        </p:nvSpPr>
        <p:spPr>
          <a:xfrm flipV="1">
            <a:off x="128340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Gerade Verbindung 30"/>
          <p:cNvSpPr/>
          <p:nvPr/>
        </p:nvSpPr>
        <p:spPr>
          <a:xfrm flipV="1">
            <a:off x="778680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Gerade Verbindung 31"/>
          <p:cNvSpPr/>
          <p:nvPr/>
        </p:nvSpPr>
        <p:spPr>
          <a:xfrm flipV="1">
            <a:off x="557136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Gerade Verbindung 32"/>
          <p:cNvSpPr/>
          <p:nvPr/>
        </p:nvSpPr>
        <p:spPr>
          <a:xfrm flipV="1">
            <a:off x="328608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ielen Dank für eure Aufmerksamke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itera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aumeister, H., Härter, M. (2006). Somatoforme Störungen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sychiatrie, 3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5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lling, H., Mombour, W. &amp; Schmidt, M.H. (2008)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Internationale Klassifikation psychischer Störungen. ICD-10 Kapitel V (F). Klinisch-dignostische Leitlinien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errez, M. &amp; Baumann, U.(Hrsg.).Lehrbuch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linische Psychologie-Psychotherapie (3. Auflage)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9910-8F51-46C4-8364-E88FBC551C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Symptoma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Diagnostik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4362-A1F4-4A6D-9BE0-83A271D185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Diagnos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358-13E9-424E-8733-7232C50C0C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Epidemiologie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7" descr="Gipsmännchen.gif"/>
          <p:cNvPicPr/>
          <p:nvPr/>
        </p:nvPicPr>
        <p:blipFill>
          <a:blip r:embed="rId1"/>
          <a:stretch/>
        </p:blipFill>
        <p:spPr>
          <a:xfrm>
            <a:off x="714240" y="500040"/>
            <a:ext cx="1857600" cy="2008080"/>
          </a:xfrm>
          <a:prstGeom prst="rect">
            <a:avLst/>
          </a:prstGeom>
          <a:ln w="0">
            <a:noFill/>
          </a:ln>
        </p:spPr>
      </p:pic>
      <p:pic>
        <p:nvPicPr>
          <p:cNvPr id="64" name="Grafik 9" descr="kopfweh.jpg"/>
          <p:cNvPicPr/>
          <p:nvPr/>
        </p:nvPicPr>
        <p:blipFill>
          <a:blip r:embed="rId2"/>
          <a:stretch/>
        </p:blipFill>
        <p:spPr>
          <a:xfrm>
            <a:off x="3429000" y="4500720"/>
            <a:ext cx="2790720" cy="2095200"/>
          </a:xfrm>
          <a:prstGeom prst="rect">
            <a:avLst/>
          </a:prstGeom>
          <a:ln w="0">
            <a:noFill/>
          </a:ln>
        </p:spPr>
      </p:pic>
      <p:pic>
        <p:nvPicPr>
          <p:cNvPr id="65" name="Grafik 10" descr="Bauchweh.jpg"/>
          <p:cNvPicPr/>
          <p:nvPr/>
        </p:nvPicPr>
        <p:blipFill>
          <a:blip r:embed="rId3"/>
          <a:stretch/>
        </p:blipFill>
        <p:spPr>
          <a:xfrm>
            <a:off x="285840" y="300024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66" name="Grafik 11" descr="pillen_400q.jpg"/>
          <p:cNvPicPr/>
          <p:nvPr/>
        </p:nvPicPr>
        <p:blipFill>
          <a:blip r:embed="rId4"/>
          <a:stretch/>
        </p:blipFill>
        <p:spPr>
          <a:xfrm>
            <a:off x="4929120" y="35712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Grafik 12" descr="rueckenschmerzen.jpg"/>
          <p:cNvPicPr/>
          <p:nvPr/>
        </p:nvPicPr>
        <p:blipFill>
          <a:blip r:embed="rId5"/>
          <a:stretch/>
        </p:blipFill>
        <p:spPr>
          <a:xfrm>
            <a:off x="6500880" y="3857760"/>
            <a:ext cx="23572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. Gene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netische Komponente 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ht speziell für Somatoforme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ringer als bei anderen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isoziales 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kohol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188-43E6-4FD5-8904-94ABB507C3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5" descr="dna2.jpg"/>
          <p:cNvPicPr/>
          <p:nvPr/>
        </p:nvPicPr>
        <p:blipFill>
          <a:blip r:embed="rId1"/>
          <a:stretch/>
        </p:blipFill>
        <p:spPr>
          <a:xfrm>
            <a:off x="6477120" y="214200"/>
            <a:ext cx="2166840" cy="15004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147964_1_alkohol.jpg"/>
          <p:cNvPicPr/>
          <p:nvPr/>
        </p:nvPicPr>
        <p:blipFill>
          <a:blip r:embed="rId2"/>
          <a:stretch/>
        </p:blipFill>
        <p:spPr>
          <a:xfrm>
            <a:off x="4929120" y="3786120"/>
            <a:ext cx="3065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ochem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dokrine und immunologische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hrnehmung körperlicher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urophysiolog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örung in der Reizfilte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rechte Hemisphä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fizite in den Funktionsabläuf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ABC7-ED45-4F2C-8769-B584D4A6A7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Grafik 5" descr="Gehirn-Homer-funktionsabläufe.gif"/>
          <p:cNvPicPr/>
          <p:nvPr/>
        </p:nvPicPr>
        <p:blipFill>
          <a:blip r:embed="rId1"/>
          <a:stretch/>
        </p:blipFill>
        <p:spPr>
          <a:xfrm>
            <a:off x="6429240" y="3714840"/>
            <a:ext cx="20862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sychophysiologische Asp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rhöhtes Aktivierungsniv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zerrte Wahrnehmung körperlicher Sig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hlende Fähigkeit zur Hab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D63-B255-4D72-B758-57682BC9FE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afik 7" descr="verzerrte Spiegel.jpg"/>
          <p:cNvPicPr/>
          <p:nvPr/>
        </p:nvPicPr>
        <p:blipFill>
          <a:blip r:embed="rId1"/>
          <a:stretch/>
        </p:blipFill>
        <p:spPr>
          <a:xfrm>
            <a:off x="1928880" y="3929040"/>
            <a:ext cx="4714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6760" y="3643200"/>
            <a:ext cx="85726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stärkung der Verhaltensw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ypische Einstel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 enger Begriff von „Gesundsein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ringe Toleranz für körperlich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57360" y="1714680"/>
            <a:ext cx="460980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ranksein wichtiges Familien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hronisches Krankheitsverhal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ußzeilenplatzhalter 4"/>
          <p:cNvSpPr/>
          <p:nvPr/>
        </p:nvSpPr>
        <p:spPr>
          <a:xfrm>
            <a:off x="357120" y="635652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5DF8-C20C-4854-A299-B8D92746D3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5" descr="Krankes kind.jpg"/>
          <p:cNvPicPr/>
          <p:nvPr/>
        </p:nvPicPr>
        <p:blipFill>
          <a:blip r:embed="rId1"/>
          <a:stretch/>
        </p:blipFill>
        <p:spPr>
          <a:xfrm>
            <a:off x="785880" y="114300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9:01:53Z</dcterms:created>
  <dc:creator>Christiane</dc:creator>
  <dc:description/>
  <dc:language>en-US</dc:language>
  <cp:lastModifiedBy>kufner</cp:lastModifiedBy>
  <dcterms:modified xsi:type="dcterms:W3CDTF">2009-01-07T12:23:46Z</dcterms:modified>
  <cp:revision>31</cp:revision>
  <dc:subject/>
  <dc:title>Somatoforme Störungen</dc:title>
</cp:coreProperties>
</file>