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6AC1-6C0A-4E88-B2C0-B1A5152B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8AC1-1DDE-483A-838E-39A5B5C9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83F-D0A4-468E-B6DD-72416FE3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B464-57D8-4BED-BA6E-7895CDF5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290B-ADA0-4005-8F4A-F43DFC4F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B749-4124-48D6-89C8-04BD9EC3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7384-5069-4EB1-BCBA-C4A1DEFD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12A6-61BB-402F-9C1F-9E312E29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A0B4-8ABB-4E1D-AA2B-3756B5C7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E7F5-D2F5-4465-A448-08891BCF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F3EA-A0C1-45D1-883F-14612A8F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96E-0520-4ED4-81AD-A806466E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C0EF-417A-4464-9395-41B08680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E0AD-3F5F-4652-B7B3-34E0D3C3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29F9-3F9F-45E3-BDA1-10097645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3DD2-367D-44BA-A22D-F393DCD5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CE29-D1A7-4D7F-995E-3C3DF958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7F65E-F852-480F-AFB7-31B1F6DA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6F269-4FE8-4280-9051-EDC0F8C9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E9F95-6F11-411F-9C91-6A1717ED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21845-4F07-420E-BFF2-80D3103A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F5C0F-7C5B-4E0A-ACD1-2837A8FE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FB1D-1949-4413-9EDA-5E3EA6D6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91B96-E8BC-4715-A3D9-8BF2D4AE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0A9B1-1A4B-41E8-A8FA-3433F9C0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2B7A0A-101E-4B12-B25D-4089754B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E7466-CF3F-4C7E-9CCE-97B6EC20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E6796-21FA-426A-81C4-BEB3BC56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B2ABD-B2C0-4B6F-BA5B-43B4CFFE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DA96D3-AD43-420B-911D-1915AAB1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F009D-6252-4C39-A47C-5F477AFB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FB384-0934-415E-A024-FE2C9384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568AB-032F-4FD3-B13F-DE6A1FFD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C9B-52BB-4753-A745-6F334672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8EE4B-5ECD-475F-AD2C-DF914B59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8001D-BE42-4413-98F8-7272F835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0A6C6-83EE-40DD-8640-970F0A8D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0DBEC-7083-4A49-84DA-6862C20A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EB606-7DBD-4163-BEB1-1B796AE9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E830F-151A-4862-9A36-2867CB14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35D73-DE5C-43BD-A674-87D047F4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C5567-6A51-4603-9504-7135E605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B0E6F-3CF0-46B7-9434-3F37EC16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08356D-B96D-40F1-8DFE-6D531BFA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A89E-4FCF-46CD-9008-10244208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8758C5-DBCC-4B1F-8C71-4DCAED8A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044D3B-A9D4-4EA2-8F72-16B0A6F3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BB051-3A7B-4C35-8DFF-4829DC9D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6B3C54-F97E-4A93-B88E-03038FD0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6B2EA8-7419-4796-9343-12B0884E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2CA957-3347-4CE9-8F2F-C176490A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F0D3D1-771E-4CDF-8FDF-CFC512C5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BBF526-6918-4DEA-AA32-D599BBBA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13CDA0-B0A4-429D-BAC3-71F438C9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C2B81E-0769-443D-9253-ACD9E01C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4C09-A503-40D4-9EE4-5FF7453A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CE03C-EC8F-4193-A0B8-E3D446F7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C504A7-EDD6-4E28-9386-F410F0BA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629385-2D76-4381-B46A-C6559208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AFFF3B-6154-4BFB-8193-73094A33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A6052D-09E1-4F97-9F56-8954594E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4BD670-C708-4F19-B25A-06866B21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84DF33-7867-4FF4-B44F-78A19C8D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929C21-5CE7-4407-8F97-B044B68E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18E433-70A1-46C9-B519-59A7B90E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7BEDB8-58FA-4A30-8DE0-187E2649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71C3-5F87-4EE1-8686-D90A443E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18C7A5-1F6C-4D45-9AC4-72F045B9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FF1513-1A3E-4A8F-9345-09BFEC5C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50796-6EC4-434A-9D2C-A10F6DA4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90B00D-5676-4861-BC36-32D7420F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9154A5-7502-4330-85C9-399201E2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DC69A8-9C30-4ECD-80BE-BDB521C9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E0E09D-9728-4967-8C19-36896761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9DC18E-237D-4279-A0CA-C657E7CA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8AEB4B-00F4-496E-A2B4-9FBDDD38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FD7C6A-2B0F-47B1-BE47-F2D1B815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657F-6D4F-4129-A675-B68B4712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1D17EC-4ED7-4A52-B662-039F26A1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E99E55-AE79-47D4-B0D5-E3A892E9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F7F02F-E4C3-4B3D-9ED3-1BD41BC8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B48863-CBA1-4534-8EA4-86B4FE07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31986B-122A-4BDD-AC5F-DEA5287D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F93-E644-4F7E-A3EF-4906B13D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C66E-1854-47A6-977D-128E4AE5BA8F}" type="datetime">
              <a:rPr b="0" lang="de-DE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BEBA-0611-478B-BD70-77D1C534C012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eck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hteck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hteck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htec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Gerade Verbindung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Gerade Verbindung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Gerade Verbindung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Gerade Verbindung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Gerade Verbindung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Gerade Verbindung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htec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lipse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lipse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lipse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e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16A9-3561-4286-9354-4D34B7C08EDE}" type="datetime">
              <a:rPr b="0" lang="de-DE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2CDF-75AD-4954-BA43-45AF2BDFFFA4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49C2-9183-4995-9814-ECBC5C7B3C8A}" type="datetime">
              <a:rPr b="0" lang="de-DE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5317-F0FE-45B2-AC1A-D9A8B2963B5C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hteck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eck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eck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eck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Gerade Verbindung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Gerade Verbindung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Gerade Verbindung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erade Verbindung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Gerade Verbindung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hteck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lipse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lipse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lipse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lipse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lipse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Gerade Verbindung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569D-5B7B-40BC-B9B0-49753305B514}" type="datetime">
              <a:rPr b="0" lang="de-DE" sz="1200" spc="-1" strike="noStrike">
                <a:solidFill>
                  <a:srgbClr val="fff39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E2ED-730A-44BA-84F1-D27E0A9CC374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EE14-91DF-4866-B6D9-67898AC2DE0E}" type="datetime">
              <a:rPr b="0" lang="de-DE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06A8-A011-4563-87AF-4EB3F98187E0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Gerade Verbindung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Gerade Verbindung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Gerade Verbindung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 Verbindung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eck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Gerade Verbindung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lipse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4A19-5041-4918-8D53-FA7A11AA3C8B}" type="datetime">
              <a:rPr b="0" lang="de-DE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5E23-5F8B-4589-9CBB-062B876A8122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Gerade Verbindung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lipse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eck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Gerade Verbindung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Gerade Verbindung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Gerade Verbindung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C0A1-9231-4542-8351-095BCCBC1FFD}" type="datetime">
              <a:rPr b="0" lang="de-DE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D3A0-51C5-45FD-A8D4-147CBDFC518A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liennummernplatzhalter 28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2B83-F47F-47EA-9531-8C411201D72D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57240" y="928800"/>
            <a:ext cx="707256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575f6d"/>
                </a:solidFill>
                <a:latin typeface="Century Schoolbook"/>
              </a:rPr>
              <a:t>MULTI-CENTER STUDY ON</a:t>
            </a:r>
            <a:br>
              <a:rPr sz="2700"/>
            </a:br>
            <a:r>
              <a:rPr b="1" lang="de-DE" sz="2700" spc="-1" strike="noStrike">
                <a:solidFill>
                  <a:srgbClr val="575f6d"/>
                </a:solidFill>
                <a:latin typeface="Century Schoolbook"/>
              </a:rPr>
              <a:t> ALZHEIMER’S DISEASE</a:t>
            </a:r>
            <a:br>
              <a:rPr sz="2700"/>
            </a:br>
            <a:r>
              <a:rPr b="1" lang="de-DE" sz="2700" spc="-1" strike="noStrike">
                <a:solidFill>
                  <a:srgbClr val="575f6d"/>
                </a:solidFill>
                <a:latin typeface="Century Schoolbook"/>
              </a:rPr>
              <a:t>USING FDG PET: GROUP AND INDIVIDUAL ANALYS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14360" y="3000240"/>
            <a:ext cx="6715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75f6d"/>
                </a:solidFill>
                <a:latin typeface="Century Schoolbook"/>
              </a:rPr>
              <a:t>Yuan, X., Shan, B., Ma, Y., Tian, J., Jiang, K., Cao, Q., &amp; Wang, R. (2009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Untertitel 2"/>
          <p:cNvSpPr/>
          <p:nvPr/>
        </p:nvSpPr>
        <p:spPr>
          <a:xfrm>
            <a:off x="2428920" y="6357960"/>
            <a:ext cx="64292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575f6d"/>
                </a:solidFill>
                <a:latin typeface="Century Schoolbook"/>
              </a:rPr>
              <a:t>Seminarleiter: Dr. Lars Frings                                     Referentin: Irene Reinhard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1F28-2F07-4EA1-9C9E-23A19537B7D9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75f6d"/>
                </a:solidFill>
                <a:latin typeface="Century Schoolbook"/>
              </a:rPr>
              <a:t>ERGEBNISSE:</a:t>
            </a:r>
            <a:br>
              <a:rPr sz="3600"/>
            </a:b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GRUPPENANALY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efrontaler Cortex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: 6 (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PMC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ämotorsicher Corte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 (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EF: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rontales Augenfel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+ 9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rec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rcRect l="6126" t="0" r="0" b="0"/>
          <a:stretch/>
        </p:blipFill>
        <p:spPr>
          <a:xfrm>
            <a:off x="5357880" y="1643040"/>
            <a:ext cx="3286080" cy="3197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2"/>
          <a:stretch/>
        </p:blipFill>
        <p:spPr>
          <a:xfrm>
            <a:off x="571680" y="3786120"/>
            <a:ext cx="2857320" cy="1886040"/>
          </a:xfrm>
          <a:prstGeom prst="rect">
            <a:avLst/>
          </a:prstGeom>
          <a:ln w="0">
            <a:noFill/>
          </a:ln>
        </p:spPr>
      </p:pic>
      <p:sp>
        <p:nvSpPr>
          <p:cNvPr id="396" name="Ellipse 8"/>
          <p:cNvSpPr/>
          <p:nvPr/>
        </p:nvSpPr>
        <p:spPr>
          <a:xfrm rot="20389200">
            <a:off x="5663880" y="1864800"/>
            <a:ext cx="928800" cy="28584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feb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llipse 9"/>
          <p:cNvSpPr/>
          <p:nvPr/>
        </p:nvSpPr>
        <p:spPr>
          <a:xfrm rot="19669200">
            <a:off x="6033600" y="2518920"/>
            <a:ext cx="995400" cy="41112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feb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3571920" y="4714920"/>
            <a:ext cx="2143080" cy="1771560"/>
          </a:xfrm>
          <a:prstGeom prst="rect">
            <a:avLst/>
          </a:prstGeom>
          <a:ln w="0">
            <a:noFill/>
          </a:ln>
        </p:spPr>
      </p:pic>
      <p:cxnSp>
        <p:nvCxnSpPr>
          <p:cNvPr id="399" name="Gerade Verbindung mit Pfeil 11"/>
          <p:cNvCxnSpPr/>
          <p:nvPr/>
        </p:nvCxnSpPr>
        <p:spPr>
          <a:xfrm>
            <a:off x="1141920" y="3357720"/>
            <a:ext cx="429480" cy="1072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00" name="Gerade Verbindung mit Pfeil 14"/>
          <p:cNvCxnSpPr/>
          <p:nvPr/>
        </p:nvCxnSpPr>
        <p:spPr>
          <a:xfrm flipH="1">
            <a:off x="5000040" y="4286160"/>
            <a:ext cx="214920" cy="10008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2A5B-A263-46F7-B944-9AFEBC6EA972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75f6d"/>
                </a:solidFill>
                <a:latin typeface="Century Schoolbook"/>
              </a:rPr>
              <a:t>ERGEBNISSE:</a:t>
            </a:r>
            <a:br>
              <a:rPr sz="3600"/>
            </a:b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GRUPPENANALY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ttlerer &amp; inferiorer temporaler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rte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: 21, 20, 3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entrale Ansich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nks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    rech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5" descr=""/>
          <p:cNvPicPr/>
          <p:nvPr/>
        </p:nvPicPr>
        <p:blipFill>
          <a:blip r:embed="rId1"/>
          <a:srcRect l="0" t="2084" r="4698" b="0"/>
          <a:stretch/>
        </p:blipFill>
        <p:spPr>
          <a:xfrm>
            <a:off x="3786120" y="2214720"/>
            <a:ext cx="4929120" cy="3367080"/>
          </a:xfrm>
          <a:prstGeom prst="rect">
            <a:avLst/>
          </a:prstGeom>
          <a:ln w="0">
            <a:noFill/>
          </a:ln>
        </p:spPr>
      </p:pic>
      <p:sp>
        <p:nvSpPr>
          <p:cNvPr id="405" name="Bogen 4"/>
          <p:cNvSpPr/>
          <p:nvPr/>
        </p:nvSpPr>
        <p:spPr>
          <a:xfrm rot="20180400">
            <a:off x="5740200" y="4694040"/>
            <a:ext cx="1409400" cy="420480"/>
          </a:xfrm>
          <a:custGeom>
            <a:avLst/>
            <a:gdLst>
              <a:gd name="textAreaLeft" fmla="*/ 20880 w 1409400"/>
              <a:gd name="textAreaRight" fmla="*/ 1397880 w 1409400"/>
              <a:gd name="textAreaTop" fmla="*/ 0 h 420480"/>
              <a:gd name="textAreaBottom" fmla="*/ 171720 h 420480"/>
            </a:gdLst>
            <a:ahLst/>
            <a:rect l="textAreaLeft" t="textAreaTop" r="textAreaRight" b="textAreaBottom"/>
            <a:pathLst>
              <a:path stroke="0" w="1409700" h="420687">
                <a:moveTo>
                  <a:pt x="21025" y="159351"/>
                </a:moveTo>
                <a:lnTo>
                  <a:pt x="21025" y="159351"/>
                </a:lnTo>
                <a:arcTo wR="704850" hR="210344" stAng="-10544125" swAng="10354056"/>
                <a:lnTo>
                  <a:pt x="704850" y="210344"/>
                </a:lnTo>
                <a:close/>
              </a:path>
              <a:path fill="none" w="1409700" h="420687">
                <a:moveTo>
                  <a:pt x="21025" y="159351"/>
                </a:moveTo>
                <a:lnTo>
                  <a:pt x="21025" y="159351"/>
                </a:lnTo>
                <a:arcTo wR="704850" hR="210344" stAng="-10544125" swAng="10354056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2"/>
          <a:srcRect l="0" t="0" r="9103" b="0"/>
          <a:stretch/>
        </p:blipFill>
        <p:spPr>
          <a:xfrm>
            <a:off x="428760" y="2786040"/>
            <a:ext cx="1928520" cy="1568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"/>
          <p:cNvPicPr/>
          <p:nvPr/>
        </p:nvPicPr>
        <p:blipFill>
          <a:blip r:embed="rId3"/>
          <a:srcRect l="15171" t="0" r="12756" b="0"/>
          <a:stretch/>
        </p:blipFill>
        <p:spPr>
          <a:xfrm>
            <a:off x="2000160" y="4786200"/>
            <a:ext cx="1357560" cy="1243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"/>
          <p:cNvPicPr/>
          <p:nvPr/>
        </p:nvPicPr>
        <p:blipFill>
          <a:blip r:embed="rId4"/>
          <a:stretch/>
        </p:blipFill>
        <p:spPr>
          <a:xfrm>
            <a:off x="3429000" y="4786200"/>
            <a:ext cx="1357200" cy="1271880"/>
          </a:xfrm>
          <a:prstGeom prst="rect">
            <a:avLst/>
          </a:prstGeom>
          <a:ln w="0">
            <a:noFill/>
          </a:ln>
        </p:spPr>
      </p:pic>
      <p:cxnSp>
        <p:nvCxnSpPr>
          <p:cNvPr id="409" name="Gerade Verbindung mit Pfeil 9"/>
          <p:cNvCxnSpPr/>
          <p:nvPr/>
        </p:nvCxnSpPr>
        <p:spPr>
          <a:xfrm flipH="1">
            <a:off x="4000320" y="5213880"/>
            <a:ext cx="100080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10" name="Gerade Verbindung mit Pfeil 10"/>
          <p:cNvCxnSpPr/>
          <p:nvPr/>
        </p:nvCxnSpPr>
        <p:spPr>
          <a:xfrm>
            <a:off x="1642680" y="5214600"/>
            <a:ext cx="107244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3537-9C06-423D-AD8A-9F3843330B4F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75f6d"/>
                </a:solidFill>
                <a:latin typeface="Century Schoolbook"/>
              </a:rPr>
              <a:t>ERGEBNISSE:</a:t>
            </a:r>
            <a:br>
              <a:rPr sz="3600"/>
            </a:b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GRUPPENANALY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00200"/>
            <a:ext cx="79725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Zusammenfassung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1" lang="de-DE" sz="1600" spc="-1" strike="noStrike">
                <a:solidFill>
                  <a:srgbClr val="000000"/>
                </a:solidFill>
                <a:latin typeface="Century Schoolbook"/>
              </a:rPr>
              <a:t>Voxel</a:t>
            </a:r>
            <a:r>
              <a:rPr b="0" lang="de-DE" sz="1600" spc="-1" strike="noStrike">
                <a:solidFill>
                  <a:srgbClr val="000000"/>
                </a:solidFill>
                <a:latin typeface="Century Schoolbook"/>
              </a:rPr>
              <a:t>: Datenpunkt/Bildpunkt in einem dreidimensionalen Raum  </a:t>
            </a:r>
            <a:r>
              <a:rPr b="0" lang="de-DE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entury Schoolbook"/>
              </a:rPr>
              <a:t>     (setzt sich aus den Begriffen </a:t>
            </a:r>
            <a:r>
              <a:rPr b="0" i="1" lang="de-DE" sz="1600" spc="-1" strike="noStrike">
                <a:solidFill>
                  <a:srgbClr val="000000"/>
                </a:solidFill>
                <a:latin typeface="Century Schoolbook"/>
              </a:rPr>
              <a:t>Volumen </a:t>
            </a:r>
            <a:r>
              <a:rPr b="0" lang="de-DE" sz="1600" spc="-1" strike="noStrike">
                <a:solidFill>
                  <a:srgbClr val="000000"/>
                </a:solidFill>
                <a:latin typeface="Century Schoolbook"/>
              </a:rPr>
              <a:t>und </a:t>
            </a:r>
            <a:r>
              <a:rPr b="0" i="1" lang="de-DE" sz="1600" spc="-1" strike="noStrike">
                <a:solidFill>
                  <a:srgbClr val="000000"/>
                </a:solidFill>
                <a:latin typeface="Century Schoolbook"/>
              </a:rPr>
              <a:t>Pixel </a:t>
            </a:r>
            <a:r>
              <a:rPr b="0" lang="de-DE" sz="1600" spc="-1" strike="noStrike">
                <a:solidFill>
                  <a:srgbClr val="000000"/>
                </a:solidFill>
                <a:latin typeface="Century Schoolbook"/>
              </a:rPr>
              <a:t>zusammen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Beispiel für eine 3D Analyse im 2ten Cen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0" t="0" r="59824" b="0"/>
          <a:stretch/>
        </p:blipFill>
        <p:spPr>
          <a:xfrm>
            <a:off x="785880" y="2286000"/>
            <a:ext cx="4870440" cy="30002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"/>
          <p:cNvPicPr/>
          <p:nvPr/>
        </p:nvPicPr>
        <p:blipFill>
          <a:blip r:embed="rId2"/>
          <a:srcRect l="79050" t="0" r="0" b="0"/>
          <a:stretch/>
        </p:blipFill>
        <p:spPr>
          <a:xfrm>
            <a:off x="5572080" y="2286000"/>
            <a:ext cx="25401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2FC2-440E-4C84-98B5-927BAECAC780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75f6d"/>
                </a:solidFill>
                <a:latin typeface="Century Schoolbook"/>
              </a:rPr>
              <a:t>ERGEBNISSE:</a:t>
            </a:r>
            <a:br>
              <a:rPr sz="3600"/>
            </a:b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AUF INDIVIDUELLER BA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8" name="Picture 6" descr=""/>
          <p:cNvPicPr/>
          <p:nvPr/>
        </p:nvPicPr>
        <p:blipFill>
          <a:blip r:embed="rId1"/>
          <a:srcRect l="1768" t="0" r="1560" b="0"/>
          <a:stretch/>
        </p:blipFill>
        <p:spPr>
          <a:xfrm>
            <a:off x="142920" y="2286000"/>
            <a:ext cx="88581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E6A4-1665-4502-8B4B-E7980C3A98ED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81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INTERPRETATION DER ERGEBNIS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0" y="1714680"/>
            <a:ext cx="91440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ingulärer &amp; parietaler Cortex (BA: 31, 23, 7, 39, 40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Kognitive Defizite: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Gedächtnis: Kurzzeitgedächtnis </a:t>
            </a:r>
            <a:r>
              <a:rPr b="0" lang="de-DE" sz="2000" spc="-1" strike="noStrike">
                <a:solidFill>
                  <a:srgbClr val="000000"/>
                </a:solidFill>
                <a:latin typeface="Century Schoolbook"/>
              </a:rPr>
              <a:t>(Aufnahme, Speicherung &amp; Wiedergabe neuer Info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Planen von Einzelbewegungen/Bewegungsabfolgen </a:t>
            </a:r>
            <a:r>
              <a:rPr b="0" i="1" lang="de-DE" sz="2200" spc="-1" strike="noStrike">
                <a:solidFill>
                  <a:srgbClr val="000000"/>
                </a:solidFill>
                <a:latin typeface="Century Schoolbook"/>
              </a:rPr>
              <a:t>(Apraxi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Erkennen von Gesichtern/Gegenständen(</a:t>
            </a:r>
            <a:r>
              <a:rPr b="0" i="1" lang="de-DE" sz="2200" spc="-1" strike="noStrike">
                <a:solidFill>
                  <a:srgbClr val="000000"/>
                </a:solidFill>
                <a:latin typeface="Century Schoolbook"/>
              </a:rPr>
              <a:t>Agnosie: visuell/taktil</a:t>
            </a: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Haushalt, Ankleiden, Hygiene, Figuren nachzeichnen(</a:t>
            </a:r>
            <a:r>
              <a:rPr b="0" i="1" lang="de-DE" sz="2200" spc="-1" strike="noStrike">
                <a:solidFill>
                  <a:srgbClr val="000000"/>
                </a:solidFill>
                <a:latin typeface="Century Schoolbook"/>
              </a:rPr>
              <a:t>Neglect</a:t>
            </a: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Rechenfähigkeiten (</a:t>
            </a:r>
            <a:r>
              <a:rPr b="0" i="1" lang="de-DE" sz="2200" spc="-1" strike="noStrike">
                <a:solidFill>
                  <a:srgbClr val="000000"/>
                </a:solidFill>
                <a:latin typeface="Century Schoolbook"/>
              </a:rPr>
              <a:t>Akalkulie</a:t>
            </a: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Desorientierung (Zeit und Ort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8897-CC33-4D7A-8A6A-19A64C8488C9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INTERPRETATION DER ERGEBNIS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2060280"/>
            <a:ext cx="746748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Prefrontaler Cortex (BA: 6, 8, 9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entury Schoolbook"/>
              </a:rPr>
              <a:t>Kognitive Defizite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88240" indent="-250920">
              <a:lnSpc>
                <a:spcPct val="13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entury Schoolbook"/>
              </a:rPr>
              <a:t>Arbeitsgedächtnis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88240" indent="-250920">
              <a:lnSpc>
                <a:spcPct val="12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entury Schoolbook"/>
              </a:rPr>
              <a:t>Motorisches Lernen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40960" indent="-167760">
              <a:lnSpc>
                <a:spcPct val="120000"/>
              </a:lnSpc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Zeitliche Organisation von Bewegung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40960" indent="-167760">
              <a:lnSpc>
                <a:spcPct val="120000"/>
              </a:lnSpc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Bimanuelle Koordin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40960" indent="-167760">
              <a:lnSpc>
                <a:spcPct val="120000"/>
              </a:lnSpc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Assoziationslern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E2C4-7469-4C1A-8FF6-40900EABAD87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INTERPRETATION DER ERGEBNIS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6840" y="1599840"/>
            <a:ext cx="746748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Mittlerer &amp; inferiorer temporaler Cortex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(BA: 21, 20, 37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entury Schoolbook"/>
              </a:rPr>
              <a:t>Kognitive Defizite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20000"/>
              </a:lnSpc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Objektwahrnehmu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Selektion visueller und auditorischer Reiz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Langzeitgedächtn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Veränderung der Persönlichkeit und des Affek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5507-EB84-4291-9068-F0D18ED55CED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entury Schoolbook"/>
              </a:rPr>
              <a:t>Noch Fragen oder Anregungen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AB86-E702-4254-A1C2-1322C57BE025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141720"/>
            <a:ext cx="7467480" cy="33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entury Schoolbook"/>
              </a:rPr>
              <a:t>Danke für eure Aufmerksamkei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15C8-AF79-47B2-982D-2098FB21F93D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GLIEDERU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entury Schoolbook"/>
              </a:rPr>
              <a:t>Theoretische Hintergründ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entury Schoolbook"/>
              </a:rPr>
              <a:t>Bisherige Befund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entury Schoolbook"/>
              </a:rPr>
              <a:t>Ziel der vorliegenden Studi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entury Schoolbook"/>
              </a:rPr>
              <a:t>Method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entury Schoolbook"/>
              </a:rPr>
              <a:t>Ergebniss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Gruppenanaly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auf individueller Ba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Century Schoolbook"/>
              </a:rPr>
              <a:t>Interpretation der Ergebnisse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201C-3073-44C6-99FE-95AA8391BD52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THEORETISCHE HINTERGRÜN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14200" y="1785960"/>
            <a:ext cx="85010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Alzheimer (AD)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 regionaler Hypo-Metabolismus &amp; Hypo-Glukosemetabolism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Glukosestoffwechsel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zentral zur Aufrechterhaltung zerebraler Funktion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Messmethode: </a:t>
            </a:r>
            <a:r>
              <a:rPr b="0" lang="de-DE" sz="2800" spc="-1" strike="noStrike">
                <a:solidFill>
                  <a:srgbClr val="000000"/>
                </a:solidFill>
                <a:latin typeface="Century Schoolbook"/>
              </a:rPr>
              <a:t>FDG PE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Fluordesoxyglukose - radioaktiv markierte Glukos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Darstellung des Glukosemetabolism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ED28-EF19-46A7-AEF5-0534FADF7D7F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BISHERIGE BEFUN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85840" y="228600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spcAft>
                <a:spcPts val="1800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FDG PET Studien meistens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 getrennt voneinander in verschiedenen Laboren auf Gruppenebene durchgeführ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Herholz und Kollegen (1993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Vergleich von FDG PET Studien </a:t>
            </a:r>
            <a:r>
              <a:rPr b="0" lang="de-DE" sz="1800" spc="-1" strike="noStrike">
                <a:solidFill>
                  <a:srgbClr val="000000"/>
                </a:solidFill>
                <a:latin typeface="Century Schoolbook"/>
              </a:rPr>
              <a:t>(Ergebnisse 3 er PET Centren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Multi-Center Analy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Effekte des Alters, Geschlechts und Krankheitsverlauf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20A5-5FE6-417C-A11B-BE41259FA9E7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BISHERIGE BEFUN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2071800"/>
            <a:ext cx="825804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Del Sole und Kollegen (2008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individuelle Defizite im regionalen Metabolismus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bei einer Gruppe von AD Patienten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Century Schoolbook"/>
              </a:rPr>
              <a:t>interindividuelle Variabilität bei AD Patienten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Konzipierung der vorliegenden Studi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Bedeutung der Themati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geringe Anzahl von FDG PET Studien auf individueller Ebene und als Multi-Center Stud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ECCF-2E23-4ED4-8E66-A94E0C38C12A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ZIEL DER VORLIEGENDEN STUDI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2285640"/>
            <a:ext cx="7467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spcAft>
                <a:spcPts val="1800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Vergleich der FDG PET Daten von AD Patienten mit einer Kontrollgruppe auf Gruppenebene und individueller Ba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Erfassung der Daten 2D &amp; 3D in verschiedenen Laboren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Multi-Center Stud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D0C5-3464-471D-9E0F-9493F7596888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46748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METHODE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13840" y="1428840"/>
            <a:ext cx="864396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39 AD Patienten (laut DSM-IV), 52 gesunde Person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 Gruppen in 3 Centern </a:t>
            </a:r>
            <a:r>
              <a:rPr b="0" lang="de-DE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entury Schoolbook"/>
              </a:rPr>
              <a:t>MMSE: Test zur Diagnose von Demenz &amp; A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entury Schoolbook"/>
              </a:rPr>
              <a:t>höchster Score: 30 (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entury Schoolbook"/>
              </a:rPr>
              <a:t>Score von 28-29: unauffällig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entury Schoolbook"/>
              </a:rPr>
              <a:t>Score: 12 -18 Mittelschweres AD Stadiu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rcRect l="0" t="0" r="0" b="30521"/>
          <a:stretch/>
        </p:blipFill>
        <p:spPr>
          <a:xfrm>
            <a:off x="357120" y="2500200"/>
            <a:ext cx="8286840" cy="2214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"/>
          <p:cNvPicPr/>
          <p:nvPr/>
        </p:nvPicPr>
        <p:blipFill>
          <a:blip r:embed="rId2"/>
          <a:srcRect l="0" t="-1629" r="25003" b="0"/>
          <a:stretch/>
        </p:blipFill>
        <p:spPr>
          <a:xfrm>
            <a:off x="500040" y="4714920"/>
            <a:ext cx="7358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413B-3145-4227-82FD-7E9ECB08B763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746748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75f6d"/>
                </a:solidFill>
                <a:latin typeface="Century Schoolbook"/>
              </a:rPr>
              <a:t>ERGEBNISSE:</a:t>
            </a:r>
            <a:br>
              <a:rPr sz="3600"/>
            </a:b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GRUPPENANALY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rcRect l="3334" t="2444" r="6668" b="0"/>
          <a:stretch/>
        </p:blipFill>
        <p:spPr>
          <a:xfrm>
            <a:off x="4714920" y="2786040"/>
            <a:ext cx="3954240" cy="29304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356760" y="1600200"/>
            <a:ext cx="75675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ilaterale Lokalisation von Hypo-Metabolismu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posteriorer cingulärer Cortex &amp; medialer parietaler Cortex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: 31, 23, 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nks                        Rech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2"/>
          <a:srcRect l="61305" t="3780" r="6125" b="0"/>
          <a:stretch/>
        </p:blipFill>
        <p:spPr>
          <a:xfrm>
            <a:off x="2571840" y="4357800"/>
            <a:ext cx="1876320" cy="14284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3"/>
          <a:srcRect l="5918" t="8086" r="17258" b="0"/>
          <a:stretch/>
        </p:blipFill>
        <p:spPr>
          <a:xfrm>
            <a:off x="500040" y="4357800"/>
            <a:ext cx="1857240" cy="1425600"/>
          </a:xfrm>
          <a:prstGeom prst="rect">
            <a:avLst/>
          </a:prstGeom>
          <a:ln w="0">
            <a:noFill/>
          </a:ln>
        </p:spPr>
      </p:pic>
      <p:sp>
        <p:nvSpPr>
          <p:cNvPr id="381" name="Bogen 8"/>
          <p:cNvSpPr/>
          <p:nvPr/>
        </p:nvSpPr>
        <p:spPr>
          <a:xfrm rot="7273200">
            <a:off x="6742440" y="3098160"/>
            <a:ext cx="1230480" cy="590400"/>
          </a:xfrm>
          <a:custGeom>
            <a:avLst/>
            <a:gdLst>
              <a:gd name="textAreaLeft" fmla="*/ 475920 w 1230480"/>
              <a:gd name="textAreaRight" fmla="*/ 1139040 w 1230480"/>
              <a:gd name="textAreaTop" fmla="*/ 0 h 590400"/>
              <a:gd name="textAreaBottom" fmla="*/ 140040 h 590400"/>
            </a:gdLst>
            <a:ahLst/>
            <a:rect l="textAreaLeft" t="textAreaTop" r="textAreaRight" b="textAreaBottom"/>
            <a:pathLst>
              <a:path stroke="0" w="1230313" h="590550">
                <a:moveTo>
                  <a:pt x="476066" y="7647"/>
                </a:moveTo>
                <a:lnTo>
                  <a:pt x="476066" y="7647"/>
                </a:lnTo>
                <a:arcTo wR="615157" hR="295275" stAng="-6948447" swAng="5958859"/>
                <a:lnTo>
                  <a:pt x="615157" y="295275"/>
                </a:lnTo>
                <a:close/>
              </a:path>
              <a:path fill="none" w="1230313" h="590550">
                <a:moveTo>
                  <a:pt x="476066" y="7647"/>
                </a:moveTo>
                <a:lnTo>
                  <a:pt x="476066" y="7647"/>
                </a:lnTo>
                <a:arcTo wR="615157" hR="295275" stAng="-6948447" swAng="5958859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liennummernplatzhalt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7E95-5E7B-430E-8EBE-62935965AB03}" type="slidenum">
              <a:rPr b="1" lang="de-DE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75f6d"/>
                </a:solidFill>
                <a:latin typeface="Century Schoolbook"/>
              </a:rPr>
              <a:t>ERGEBNISSE:</a:t>
            </a:r>
            <a:br>
              <a:rPr sz="3600"/>
            </a:b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GRUPPENANALY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85480" y="1785960"/>
            <a:ext cx="76388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mporo-parietaler Assoziationscortex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: 39, 40 (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eil des Wernicke Areal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osteriore Ansich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nteriore Ansich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5" descr=""/>
          <p:cNvPicPr/>
          <p:nvPr/>
        </p:nvPicPr>
        <p:blipFill>
          <a:blip r:embed="rId1"/>
          <a:srcRect l="0" t="0" r="8951" b="2178"/>
          <a:stretch/>
        </p:blipFill>
        <p:spPr>
          <a:xfrm>
            <a:off x="4500720" y="2714760"/>
            <a:ext cx="4214520" cy="30096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"/>
          <p:cNvPicPr/>
          <p:nvPr/>
        </p:nvPicPr>
        <p:blipFill>
          <a:blip r:embed="rId2"/>
          <a:stretch/>
        </p:blipFill>
        <p:spPr>
          <a:xfrm>
            <a:off x="357120" y="3571920"/>
            <a:ext cx="2136960" cy="1473120"/>
          </a:xfrm>
          <a:prstGeom prst="rect">
            <a:avLst/>
          </a:prstGeom>
          <a:ln w="0">
            <a:noFill/>
          </a:ln>
        </p:spPr>
      </p:pic>
      <p:cxnSp>
        <p:nvCxnSpPr>
          <p:cNvPr id="387" name="Gerade Verbindung mit Pfeil 7"/>
          <p:cNvCxnSpPr/>
          <p:nvPr/>
        </p:nvCxnSpPr>
        <p:spPr>
          <a:xfrm>
            <a:off x="642960" y="3142800"/>
            <a:ext cx="286560" cy="786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88" name="Bogen 9"/>
          <p:cNvSpPr/>
          <p:nvPr/>
        </p:nvSpPr>
        <p:spPr>
          <a:xfrm rot="10800000">
            <a:off x="7143840" y="3643200"/>
            <a:ext cx="1055520" cy="417600"/>
          </a:xfrm>
          <a:custGeom>
            <a:avLst/>
            <a:gdLst>
              <a:gd name="textAreaLeft" fmla="*/ 580680 w 1055520"/>
              <a:gd name="textAreaRight" fmla="*/ 974520 w 1055520"/>
              <a:gd name="textAreaTop" fmla="*/ 720 h 417600"/>
              <a:gd name="textAreaBottom" fmla="*/ 97560 h 417600"/>
            </a:gdLst>
            <a:ahLst/>
            <a:rect l="textAreaLeft" t="textAreaTop" r="textAreaRight" b="textAreaBottom"/>
            <a:pathLst>
              <a:path stroke="0" w="1055688" h="417512">
                <a:moveTo>
                  <a:pt x="580657" y="1048"/>
                </a:moveTo>
                <a:lnTo>
                  <a:pt x="580657" y="1048"/>
                </a:lnTo>
                <a:arcTo wR="527844" hR="208756" stAng="-4544038" swAng="3704515"/>
                <a:lnTo>
                  <a:pt x="527844" y="208756"/>
                </a:lnTo>
                <a:close/>
              </a:path>
              <a:path fill="none" w="1055688" h="417512">
                <a:moveTo>
                  <a:pt x="580657" y="1048"/>
                </a:moveTo>
                <a:lnTo>
                  <a:pt x="580657" y="1048"/>
                </a:lnTo>
                <a:arcTo wR="527844" hR="208756" stAng="-4544038" swAng="3704515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3"/>
          <a:srcRect l="13033" t="0" r="0" b="0"/>
          <a:stretch/>
        </p:blipFill>
        <p:spPr>
          <a:xfrm>
            <a:off x="2786040" y="4572000"/>
            <a:ext cx="1785960" cy="1428840"/>
          </a:xfrm>
          <a:prstGeom prst="rect">
            <a:avLst/>
          </a:prstGeom>
          <a:ln w="0">
            <a:noFill/>
          </a:ln>
        </p:spPr>
      </p:pic>
      <p:cxnSp>
        <p:nvCxnSpPr>
          <p:cNvPr id="390" name="Gerade Verbindung mit Pfeil 8"/>
          <p:cNvCxnSpPr/>
          <p:nvPr/>
        </p:nvCxnSpPr>
        <p:spPr>
          <a:xfrm flipH="1">
            <a:off x="1785600" y="3142800"/>
            <a:ext cx="286560" cy="786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9:37:21Z</dcterms:created>
  <dc:creator>Admin</dc:creator>
  <dc:description/>
  <dc:language>en-US</dc:language>
  <cp:lastModifiedBy>Admin</cp:lastModifiedBy>
  <dcterms:modified xsi:type="dcterms:W3CDTF">2011-05-26T11:08:01Z</dcterms:modified>
  <cp:revision>52</cp:revision>
  <dc:subject/>
  <dc:title>Multi-Center Study on  Alzheimer’s Disease Using FDG PET: Group and Individual Analyses</dc:title>
</cp:coreProperties>
</file>