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335-3724-4FEC-B1EA-2A64F4B1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EAD-9823-4DED-9A35-6A17B8D0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03C-CEAD-4B5D-8122-CFCBE32E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E1E-5B2C-43C7-9655-39E0A03E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98A5-C3A3-4FCC-8591-F96E6EBC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900A-E719-4871-93CD-EC8D17D7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CBB9-B686-486D-A5FE-81E67388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E38D-6E5E-45E3-B1A3-0B0D7E6F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FB28-D0B2-40CD-9728-3F8B0D1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FCE0-D38C-4AA4-8118-F50FC165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0066-0F98-4BE7-8695-835B803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780-6209-48AE-A4DA-6DB4BB98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71B5-B625-4006-8E40-8C01CD5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38ED-172E-4D80-A080-3C827085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AD8D-1887-420F-83F3-52CAE13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B01C-D86B-4D59-AF85-50F59AD2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2864-7F7B-4A88-95D3-FE11F339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2CA84-5289-415C-83F4-F0180222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63A78-F5CD-4FD7-998F-E52959EF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F0583-558E-4E39-B90A-8F7D3CC2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F4A0D-235A-4B7D-9485-F786E197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6B8FE-B388-4631-B3F2-8B985E2C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759-990F-4E5F-BCF7-FFA09581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9A18D-9027-476A-8C94-3C9E27EC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BB642-627A-462D-B254-14C16F0F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B7937-9A88-4C24-8AAA-F937818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07FB3-CD73-4DF1-BCCD-4C0FAA4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31184-321C-4AE1-A645-C33CCA16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CE9D0-63CE-441C-93F5-BFE208E0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3ED4E-F120-46C5-BB95-8635DE3B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74B4-E8A3-47B5-9A92-C9C8709B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1F6A-84AB-43A9-B50D-498C2212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8D8F-9E75-40E5-9063-E8304D0E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498-C1B2-4C04-8CCF-31B075D2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9630-B1B2-4B46-B881-B0881DF3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C594-2BD6-42CC-8B4D-99EC8D14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DAEE-AF34-4C3E-BD0D-E2D88DF1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2C36-CDFA-4E50-ACD1-1394ACBF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B65E-BD24-49CC-93D4-FAD81CD5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42019-0698-41A0-82A3-E545BDF6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0D08-97C6-4C1A-9DAD-F5727B09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95CE-E9CE-48E0-B749-F086DDB4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C00D7-598A-4B53-9863-88D6783F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6B431-DAE9-4993-9D5A-8C556C69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D67-A54B-4505-B9E3-420A915B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49F10-2B73-4355-B2D8-3752B936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1A2AC-FF8C-4612-A520-B1CA443F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704AB-C82C-48E0-9C33-A2CE4A6C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CADF8-D4E5-46BB-93E2-FE8A354C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93DC9-B750-4A57-9FA3-15315674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BD17F-D12D-4AEE-95A1-5B5E9F7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01AB6-CD3A-40EC-AD31-30FF843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0B0D5-1EE2-4743-9471-398B88B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952B5-D162-4832-9F3E-1C3FA3F7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FC67F-5CC8-40A1-AEB1-B9B1ADFF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5F7-7EE3-4F71-A8A3-881B414D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0937F-4CAC-4C9C-90B2-F0E85BF6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D2CED-35DC-42A6-BD3F-CB581B64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013F6-A8BC-452D-B904-46199F6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113E9-9281-4DF6-8E74-34882AF3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4A016-0EF1-490A-8E22-AF6302E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77244-9826-4D71-A1F1-56CDF085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7E6AD-EC34-4867-82B8-E33FC51B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36BE4-EE59-4FB0-903A-39A1DCFC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7F17B-00D8-48F4-9C26-287D74C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28048-1E2B-4C5E-8414-ECFD0570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A0C-63A2-4142-8605-D46B1158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A9CB1-C6C0-404C-A77A-0084DB1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18A5C-E741-48BA-918C-38464FEB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D0BFD-66B4-4A9D-95F9-DC99744F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51B04-13CE-4853-AD5C-9AA90831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05E00-72A1-4E9C-9A0F-F1FA981F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32F57-8B81-494A-B9DD-6F96A2D7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C6642-3067-41D0-910A-3F7C9F5A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D0838F-C99D-449F-92F8-A21239CC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8A086-82F4-4917-9412-9F8A0D8C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9EB13-73DC-4EEF-9FAB-78870361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BB3-9BDE-4308-AB9A-BE464AA5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9142A-9134-4A9B-B7E2-CE7C5A6E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41F13-FBEC-4B31-8F1B-A1570E22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81B56-D4D6-421A-9D93-4CDFFFED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02A7A-0763-4D39-9577-7F59DC07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8FED5-AA87-4C55-8C60-8228AB65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A1A-8DB6-40FF-8A21-EEBB7680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B1C8-3595-4011-BCCE-3A8564D656BE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C4C7-7CB7-4E61-BB76-C0C04C2F8D67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eck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ck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c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Gerade Verbindung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Gerade Verbindung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Gerade Verbindung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Gerade Verbindung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Gerade Verbindung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Gerade Verbindung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e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8F6B-A15C-41B8-8C3E-E84996FF88B0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F5F1-BDCB-4F16-B423-32D7DF51BB47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50FD-4A05-486A-A9B8-1690D9D8E0D1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399C-60EB-4D1A-A9BD-6AC62AF20300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hteck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eck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eck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eck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Gerade Verbindung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Gerade Verbindung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Gerade Verbindung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erade Verbindung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erade Verbindung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hteck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e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lipse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e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e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Gerade Verbindung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E30-38F1-4D60-BA30-1BB82498F36F}" type="datetime">
              <a:rPr b="0" lang="de-DE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DC86-E899-4B6C-8289-EF01464E7EB1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BDEF-545D-4057-98B4-294A1FC201C8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3D62-3664-47C0-B18C-0D8AF656A86E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Gerade Verbindung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Gerade Verbindung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Gerade Verbindung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eck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Gerade Verbindung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lipse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2588-8A2A-4D4B-8E28-90ED7CE286EF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3EAD-ABCA-4D20-81EE-F4BFFE9D77CB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Gerade Verbindung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lipse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eck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Gerade Verbindung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Gerade Verbindung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rade Verbindung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37EB-732E-4150-83FD-C0CE4D5B7AE0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E65D-5AC8-44B8-80D5-30CE96C2A662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liennummernplatzhalter 28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661F-EF40-4958-B399-0311075F43FD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57240" y="928800"/>
            <a:ext cx="707256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575f6d"/>
                </a:solidFill>
                <a:latin typeface="Century Schoolbook"/>
              </a:rPr>
              <a:t>MULTI-CENTER STUDY ON</a:t>
            </a:r>
            <a:br>
              <a:rPr sz="2700"/>
            </a:br>
            <a:r>
              <a:rPr b="1" lang="de-DE" sz="2700" spc="-1" strike="noStrike">
                <a:solidFill>
                  <a:srgbClr val="575f6d"/>
                </a:solidFill>
                <a:latin typeface="Century Schoolbook"/>
              </a:rPr>
              <a:t> ALZHEIMER’S DISEASE</a:t>
            </a:r>
            <a:br>
              <a:rPr sz="2700"/>
            </a:br>
            <a:r>
              <a:rPr b="1" lang="de-DE" sz="2700" spc="-1" strike="noStrike">
                <a:solidFill>
                  <a:srgbClr val="575f6d"/>
                </a:solidFill>
                <a:latin typeface="Century Schoolbook"/>
              </a:rPr>
              <a:t>USING FDG PET: GROUP AND INDIVIDUAL ANALYS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14360" y="3000240"/>
            <a:ext cx="6715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75f6d"/>
                </a:solidFill>
                <a:latin typeface="Century Schoolbook"/>
              </a:rPr>
              <a:t>Yuan, X., Shan, B., Ma, Y., Tian, J., Jiang, K., Cao, Q., &amp; Wang, R. (2009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Untertitel 2"/>
          <p:cNvSpPr/>
          <p:nvPr/>
        </p:nvSpPr>
        <p:spPr>
          <a:xfrm>
            <a:off x="2428920" y="6357960"/>
            <a:ext cx="6429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575f6d"/>
                </a:solidFill>
                <a:latin typeface="Century Schoolbook"/>
              </a:rPr>
              <a:t>Seminarleiter: Dr. Lars Frings                                     Referentin: Irene Reinhard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71AD-05B8-46DC-A919-CE63F9E8D31A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frontaler Cortex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: 6 (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MC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ämotorsicher Corte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 (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EF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rontales Augenfe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+ 9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rec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rcRect l="6126" t="0" r="0" b="0"/>
          <a:stretch/>
        </p:blipFill>
        <p:spPr>
          <a:xfrm>
            <a:off x="5357880" y="1643040"/>
            <a:ext cx="3286080" cy="3197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571680" y="3786120"/>
            <a:ext cx="2857320" cy="1886040"/>
          </a:xfrm>
          <a:prstGeom prst="rect">
            <a:avLst/>
          </a:prstGeom>
          <a:ln w="0">
            <a:noFill/>
          </a:ln>
        </p:spPr>
      </p:pic>
      <p:sp>
        <p:nvSpPr>
          <p:cNvPr id="396" name="Ellipse 8"/>
          <p:cNvSpPr/>
          <p:nvPr/>
        </p:nvSpPr>
        <p:spPr>
          <a:xfrm rot="20389200">
            <a:off x="5663880" y="1864800"/>
            <a:ext cx="928800" cy="2858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lipse 9"/>
          <p:cNvSpPr/>
          <p:nvPr/>
        </p:nvSpPr>
        <p:spPr>
          <a:xfrm rot="19669200">
            <a:off x="6033600" y="2518920"/>
            <a:ext cx="995400" cy="41112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3571920" y="4714920"/>
            <a:ext cx="2143080" cy="1771560"/>
          </a:xfrm>
          <a:prstGeom prst="rect">
            <a:avLst/>
          </a:prstGeom>
          <a:ln w="0">
            <a:noFill/>
          </a:ln>
        </p:spPr>
      </p:pic>
      <p:cxnSp>
        <p:nvCxnSpPr>
          <p:cNvPr id="399" name="Gerade Verbindung mit Pfeil 11"/>
          <p:cNvCxnSpPr/>
          <p:nvPr/>
        </p:nvCxnSpPr>
        <p:spPr>
          <a:xfrm>
            <a:off x="1141920" y="3357720"/>
            <a:ext cx="429480" cy="1072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0" name="Gerade Verbindung mit Pfeil 14"/>
          <p:cNvCxnSpPr/>
          <p:nvPr/>
        </p:nvCxnSpPr>
        <p:spPr>
          <a:xfrm flipH="1">
            <a:off x="5000040" y="4286160"/>
            <a:ext cx="214920" cy="1000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0E4E-ADB2-4776-BF6A-B181F3B484C1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ttlerer &amp; inferiorer temporaler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: 21, 20, 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entrale Ansich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nks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rech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1"/>
          <a:srcRect l="0" t="2084" r="4698" b="0"/>
          <a:stretch/>
        </p:blipFill>
        <p:spPr>
          <a:xfrm>
            <a:off x="3786120" y="2214720"/>
            <a:ext cx="4929120" cy="3367080"/>
          </a:xfrm>
          <a:prstGeom prst="rect">
            <a:avLst/>
          </a:prstGeom>
          <a:ln w="0">
            <a:noFill/>
          </a:ln>
        </p:spPr>
      </p:pic>
      <p:sp>
        <p:nvSpPr>
          <p:cNvPr id="405" name="Bogen 4"/>
          <p:cNvSpPr/>
          <p:nvPr/>
        </p:nvSpPr>
        <p:spPr>
          <a:xfrm rot="20180400">
            <a:off x="5740200" y="4694040"/>
            <a:ext cx="1409400" cy="420480"/>
          </a:xfrm>
          <a:custGeom>
            <a:avLst/>
            <a:gdLst>
              <a:gd name="textAreaLeft" fmla="*/ 20880 w 1409400"/>
              <a:gd name="textAreaRight" fmla="*/ 1397880 w 1409400"/>
              <a:gd name="textAreaTop" fmla="*/ 0 h 420480"/>
              <a:gd name="textAreaBottom" fmla="*/ 171720 h 420480"/>
            </a:gdLst>
            <a:ahLst/>
            <a:rect l="textAreaLeft" t="textAreaTop" r="textAreaRight" b="textAreaBottom"/>
            <a:pathLst>
              <a:path stroke="0" w="1409700" h="420687">
                <a:moveTo>
                  <a:pt x="21025" y="159351"/>
                </a:moveTo>
                <a:lnTo>
                  <a:pt x="21025" y="159351"/>
                </a:lnTo>
                <a:arcTo wR="704850" hR="210344" stAng="-10544125" swAng="10354056"/>
                <a:lnTo>
                  <a:pt x="704850" y="210344"/>
                </a:lnTo>
                <a:close/>
              </a:path>
              <a:path fill="none" w="1409700" h="420687">
                <a:moveTo>
                  <a:pt x="21025" y="159351"/>
                </a:moveTo>
                <a:lnTo>
                  <a:pt x="21025" y="159351"/>
                </a:lnTo>
                <a:arcTo wR="704850" hR="210344" stAng="-10544125" swAng="10354056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rcRect l="0" t="0" r="9103" b="0"/>
          <a:stretch/>
        </p:blipFill>
        <p:spPr>
          <a:xfrm>
            <a:off x="428760" y="2786040"/>
            <a:ext cx="1928520" cy="1568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rcRect l="15171" t="0" r="12756" b="0"/>
          <a:stretch/>
        </p:blipFill>
        <p:spPr>
          <a:xfrm>
            <a:off x="2000160" y="4786200"/>
            <a:ext cx="135756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1357200" cy="1271880"/>
          </a:xfrm>
          <a:prstGeom prst="rect">
            <a:avLst/>
          </a:prstGeom>
          <a:ln w="0">
            <a:noFill/>
          </a:ln>
        </p:spPr>
      </p:pic>
      <p:cxnSp>
        <p:nvCxnSpPr>
          <p:cNvPr id="409" name="Gerade Verbindung mit Pfeil 9"/>
          <p:cNvCxnSpPr/>
          <p:nvPr/>
        </p:nvCxnSpPr>
        <p:spPr>
          <a:xfrm flipH="1">
            <a:off x="4000320" y="5213880"/>
            <a:ext cx="100080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10" name="Gerade Verbindung mit Pfeil 10"/>
          <p:cNvCxnSpPr/>
          <p:nvPr/>
        </p:nvCxnSpPr>
        <p:spPr>
          <a:xfrm>
            <a:off x="1642680" y="5214600"/>
            <a:ext cx="107244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3685-6E19-48EB-A17A-9223B2C077D9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7972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Zusammenfassu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de-DE" sz="1600" spc="-1" strike="noStrike">
                <a:solidFill>
                  <a:srgbClr val="000000"/>
                </a:solidFill>
                <a:latin typeface="Century Schoolbook"/>
              </a:rPr>
              <a:t>Voxel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: Datenpunkt/Bildpunkt in einem dreidimensionalen Raum  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     (setzt sich aus den Begriffen </a:t>
            </a:r>
            <a:r>
              <a:rPr b="0" i="1" lang="de-DE" sz="1600" spc="-1" strike="noStrike">
                <a:solidFill>
                  <a:srgbClr val="000000"/>
                </a:solidFill>
                <a:latin typeface="Century Schoolbook"/>
              </a:rPr>
              <a:t>Volumen 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und </a:t>
            </a:r>
            <a:r>
              <a:rPr b="0" i="1" lang="de-DE" sz="1600" spc="-1" strike="noStrike">
                <a:solidFill>
                  <a:srgbClr val="000000"/>
                </a:solidFill>
                <a:latin typeface="Century Schoolbook"/>
              </a:rPr>
              <a:t>Pixel 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zusammen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Beispiel für eine 3D Analyse im 2ten Cen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0" t="0" r="59824" b="0"/>
          <a:stretch/>
        </p:blipFill>
        <p:spPr>
          <a:xfrm>
            <a:off x="785880" y="2286000"/>
            <a:ext cx="4870440" cy="3000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2"/>
          <a:srcRect l="79050" t="0" r="0" b="0"/>
          <a:stretch/>
        </p:blipFill>
        <p:spPr>
          <a:xfrm>
            <a:off x="5572080" y="2286000"/>
            <a:ext cx="25401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6879-74AF-400C-B890-BE20FF5318EF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AUF INDIVIDUELLER BA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1"/>
          <a:srcRect l="1768" t="0" r="1560" b="0"/>
          <a:stretch/>
        </p:blipFill>
        <p:spPr>
          <a:xfrm>
            <a:off x="142920" y="2286000"/>
            <a:ext cx="88581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C558-3969-4713-93B7-939C95B33BF7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8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INTERPRETATION DER ERGEBNIS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1714680"/>
            <a:ext cx="91440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ingulärer &amp; parietaler Cortex (BA: 31, 23, 7, 39, 40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Kognitive Defizite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Gedächtnis: Kurzzeitgedächtnis </a:t>
            </a:r>
            <a:r>
              <a:rPr b="0" lang="de-DE" sz="2000" spc="-1" strike="noStrike">
                <a:solidFill>
                  <a:srgbClr val="000000"/>
                </a:solidFill>
                <a:latin typeface="Century Schoolbook"/>
              </a:rPr>
              <a:t>(Aufnahme, Speicherung &amp; Wiedergabe neuer Info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Planen von Einzelbewegungen/Bewegungsabfolgen </a:t>
            </a:r>
            <a:r>
              <a:rPr b="0" i="1" lang="de-DE" sz="2200" spc="-1" strike="noStrike">
                <a:solidFill>
                  <a:srgbClr val="000000"/>
                </a:solidFill>
                <a:latin typeface="Century Schoolbook"/>
              </a:rPr>
              <a:t>(Apraxi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Erkennen von Gesichtern/Gegenständen(</a:t>
            </a:r>
            <a:r>
              <a:rPr b="0" i="1" lang="de-DE" sz="2200" spc="-1" strike="noStrike">
                <a:solidFill>
                  <a:srgbClr val="000000"/>
                </a:solidFill>
                <a:latin typeface="Century Schoolbook"/>
              </a:rPr>
              <a:t>Agnosie: visuell/taktil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Haushalt, Ankleiden, Hygiene, Figuren nachzeichnen(</a:t>
            </a:r>
            <a:r>
              <a:rPr b="0" i="1" lang="de-DE" sz="2200" spc="-1" strike="noStrike">
                <a:solidFill>
                  <a:srgbClr val="000000"/>
                </a:solidFill>
                <a:latin typeface="Century Schoolbook"/>
              </a:rPr>
              <a:t>Neglect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Rechenfähigkeiten (</a:t>
            </a:r>
            <a:r>
              <a:rPr b="0" i="1" lang="de-DE" sz="2200" spc="-1" strike="noStrike">
                <a:solidFill>
                  <a:srgbClr val="000000"/>
                </a:solidFill>
                <a:latin typeface="Century Schoolbook"/>
              </a:rPr>
              <a:t>Akalkulie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Desorientierung (Zeit und Or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1D50-091F-4CC7-AE16-FDF0B7A76553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INTERPRETATION DER ERGEBNIS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2060280"/>
            <a:ext cx="746748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refrontaler Cortex (BA: 6, 8, 9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Kognitive Defizite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lnSpc>
                <a:spcPct val="13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entury Schoolbook"/>
              </a:rPr>
              <a:t>Arbeitsgedächtni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lnSpc>
                <a:spcPct val="12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entury Schoolbook"/>
              </a:rPr>
              <a:t>Motorisches Lerne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2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Zeitliche Organisation von Bewegun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2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Bimanuelle Koord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2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Assoziationslern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3C8D-A987-43F6-8582-3F51A78D95F7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INTERPRETATION DER ERGEBNIS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599840"/>
            <a:ext cx="74674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ittlerer &amp; inferiorer temporaler Cortex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(BA: 21, 20, 37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Kognitive Defizite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20000"/>
              </a:lnSpc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Objektwahrnehm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Selektion visueller und auditorischer Rei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Langzeitgedächtn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Veränderung der Persönlichkeit und des Affek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D94E-E4DF-4610-9CA1-073706B7D0EF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Schoolbook"/>
              </a:rPr>
              <a:t>Noch Fragen oder Anregungen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24E7-F5A2-44A2-A23A-C0BBDF9C9D72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141720"/>
            <a:ext cx="746748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entury Schoolbook"/>
              </a:rPr>
              <a:t>Danke für eure Aufmerksamke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F04C-E946-4699-B6A3-4EF959F85E55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LIEDERU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Theoretische Hintergründ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Bisherige Befund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Ziel der vorliegenden Studi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Method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Ergebnis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Gruppenanaly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auf individueller Ba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entury Schoolbook"/>
              </a:rPr>
              <a:t>Interpretation der Ergebnisse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DB6-FC99-49B5-9637-06CDF43FF96C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THEORETISCHE HINTERGRÜN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785960"/>
            <a:ext cx="85010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Alzheimer (AD)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regionaler Hypo-Metabolismus &amp; Hypo-Glukosemetabol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Glukosestoffwechsel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zentral zur Aufrechterhaltung zerebraler Funktion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Messmethode: </a:t>
            </a:r>
            <a:r>
              <a:rPr b="0" lang="de-DE" sz="2800" spc="-1" strike="noStrike">
                <a:solidFill>
                  <a:srgbClr val="000000"/>
                </a:solidFill>
                <a:latin typeface="Century Schoolbook"/>
              </a:rPr>
              <a:t>FDG PE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Fluordesoxyglukose - radioaktiv markierte Glukos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Darstellung des Glukosemetabol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258E-E747-4AFE-933D-C61F8932DA3F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BISHERIGE BEFUN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85840" y="228600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FDG PET Studien meisten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getrennt voneinander in verschiedenen Laboren auf Gruppenebene durchgeführ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Herholz und Kollegen (1993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Vergleich von FDG PET Studien </a:t>
            </a: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(Ergebnisse 3 er PET Centren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Multi-Center Analy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Effekte des Alters, Geschlechts und Krankheitsverlauf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37F7-D255-4666-A048-E7FC2C26AB30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BISHERIGE BEFUN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2071800"/>
            <a:ext cx="82580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Del Sole und Kollegen (2008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individuelle Defizite im regionalen Metabolismu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bei einer Gruppe von AD Patiente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interindividuelle Variabilität bei AD Patiente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Konzipierung der vorliegenden Studi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Bedeutung der Themati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geringe Anzahl von FDG PET Studien auf individueller Ebene und als Multi-Center Stud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75FF-1C34-43E5-A23B-C0087890D91B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ZIEL DER VORLIEGENDEN STUDI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Vergleich der FDG PET Daten von AD Patienten mit einer Kontrollgruppe auf Gruppenebene und individueller Ba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Erfassung der Daten 2D &amp; 3D in verschiedenen Labor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Multi-Center Stud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20E9-55E2-48FF-9AC6-81AD0834CDAE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4674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METHOD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13840" y="1428840"/>
            <a:ext cx="864396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39 AD Patienten (laut DSM-IV), 52 gesunde Person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 Gruppen in 3 Centern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MMSE: Test zur Diagnose von Demenz &amp; 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höchster Score: 30 (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Score von 28-29: unauffällig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Score: 12 -18 Mittelschweres AD Stadi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rcRect l="0" t="0" r="0" b="30521"/>
          <a:stretch/>
        </p:blipFill>
        <p:spPr>
          <a:xfrm>
            <a:off x="357120" y="2500200"/>
            <a:ext cx="8286840" cy="2214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2"/>
          <a:srcRect l="0" t="-1629" r="25003" b="0"/>
          <a:stretch/>
        </p:blipFill>
        <p:spPr>
          <a:xfrm>
            <a:off x="500040" y="4714920"/>
            <a:ext cx="7358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0F65-1DF0-4C03-A02A-43E32CDDBC76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6748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rcRect l="3334" t="2444" r="6668" b="0"/>
          <a:stretch/>
        </p:blipFill>
        <p:spPr>
          <a:xfrm>
            <a:off x="4714920" y="2786040"/>
            <a:ext cx="3954240" cy="2930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56760" y="1600200"/>
            <a:ext cx="75675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ilaterale Lokalisation von Hypo-Metabolismu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posteriorer cingulärer Cortex &amp; medialer parietaler Cortex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: 31, 23,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nks                        Rech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rcRect l="61305" t="3780" r="6125" b="0"/>
          <a:stretch/>
        </p:blipFill>
        <p:spPr>
          <a:xfrm>
            <a:off x="2571840" y="4357800"/>
            <a:ext cx="1876320" cy="1428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rcRect l="5918" t="8086" r="17258" b="0"/>
          <a:stretch/>
        </p:blipFill>
        <p:spPr>
          <a:xfrm>
            <a:off x="500040" y="4357800"/>
            <a:ext cx="1857240" cy="1425600"/>
          </a:xfrm>
          <a:prstGeom prst="rect">
            <a:avLst/>
          </a:prstGeom>
          <a:ln w="0">
            <a:noFill/>
          </a:ln>
        </p:spPr>
      </p:pic>
      <p:sp>
        <p:nvSpPr>
          <p:cNvPr id="381" name="Bogen 8"/>
          <p:cNvSpPr/>
          <p:nvPr/>
        </p:nvSpPr>
        <p:spPr>
          <a:xfrm rot="7273200">
            <a:off x="6742440" y="3098160"/>
            <a:ext cx="1230480" cy="590400"/>
          </a:xfrm>
          <a:custGeom>
            <a:avLst/>
            <a:gdLst>
              <a:gd name="textAreaLeft" fmla="*/ 475920 w 1230480"/>
              <a:gd name="textAreaRight" fmla="*/ 1139040 w 1230480"/>
              <a:gd name="textAreaTop" fmla="*/ 0 h 590400"/>
              <a:gd name="textAreaBottom" fmla="*/ 140040 h 590400"/>
            </a:gdLst>
            <a:ahLst/>
            <a:rect l="textAreaLeft" t="textAreaTop" r="textAreaRight" b="textAreaBottom"/>
            <a:pathLst>
              <a:path stroke="0" w="1230313" h="590550">
                <a:moveTo>
                  <a:pt x="476066" y="7647"/>
                </a:moveTo>
                <a:lnTo>
                  <a:pt x="476066" y="7647"/>
                </a:lnTo>
                <a:arcTo wR="615157" hR="295275" stAng="-6948447" swAng="5958859"/>
                <a:lnTo>
                  <a:pt x="615157" y="295275"/>
                </a:lnTo>
                <a:close/>
              </a:path>
              <a:path fill="none" w="1230313" h="590550">
                <a:moveTo>
                  <a:pt x="476066" y="7647"/>
                </a:moveTo>
                <a:lnTo>
                  <a:pt x="476066" y="7647"/>
                </a:lnTo>
                <a:arcTo wR="615157" hR="295275" stAng="-6948447" swAng="595885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C139-2E9B-424B-A71B-8830652D71EA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85480" y="1785960"/>
            <a:ext cx="7638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poro-parietaler Assoziationscortex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: 39, 40 (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il des Wernicke Area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osteriore Ansich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nteriore Ansich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rcRect l="0" t="0" r="8951" b="2178"/>
          <a:stretch/>
        </p:blipFill>
        <p:spPr>
          <a:xfrm>
            <a:off x="4500720" y="2714760"/>
            <a:ext cx="4214520" cy="3009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357120" y="3571920"/>
            <a:ext cx="2136960" cy="1473120"/>
          </a:xfrm>
          <a:prstGeom prst="rect">
            <a:avLst/>
          </a:prstGeom>
          <a:ln w="0">
            <a:noFill/>
          </a:ln>
        </p:spPr>
      </p:pic>
      <p:cxnSp>
        <p:nvCxnSpPr>
          <p:cNvPr id="387" name="Gerade Verbindung mit Pfeil 7"/>
          <p:cNvCxnSpPr/>
          <p:nvPr/>
        </p:nvCxnSpPr>
        <p:spPr>
          <a:xfrm>
            <a:off x="642960" y="3142800"/>
            <a:ext cx="28656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88" name="Bogen 9"/>
          <p:cNvSpPr/>
          <p:nvPr/>
        </p:nvSpPr>
        <p:spPr>
          <a:xfrm rot="10800000">
            <a:off x="7143840" y="3643200"/>
            <a:ext cx="1055520" cy="417600"/>
          </a:xfrm>
          <a:custGeom>
            <a:avLst/>
            <a:gdLst>
              <a:gd name="textAreaLeft" fmla="*/ 580680 w 1055520"/>
              <a:gd name="textAreaRight" fmla="*/ 974520 w 1055520"/>
              <a:gd name="textAreaTop" fmla="*/ 720 h 417600"/>
              <a:gd name="textAreaBottom" fmla="*/ 97560 h 417600"/>
            </a:gdLst>
            <a:ahLst/>
            <a:rect l="textAreaLeft" t="textAreaTop" r="textAreaRight" b="textAreaBottom"/>
            <a:pathLst>
              <a:path stroke="0" w="1055688" h="417512">
                <a:moveTo>
                  <a:pt x="580657" y="1048"/>
                </a:moveTo>
                <a:lnTo>
                  <a:pt x="580657" y="1048"/>
                </a:lnTo>
                <a:arcTo wR="527844" hR="208756" stAng="-4544038" swAng="3704515"/>
                <a:lnTo>
                  <a:pt x="527844" y="208756"/>
                </a:lnTo>
                <a:close/>
              </a:path>
              <a:path fill="none" w="1055688" h="417512">
                <a:moveTo>
                  <a:pt x="580657" y="1048"/>
                </a:moveTo>
                <a:lnTo>
                  <a:pt x="580657" y="1048"/>
                </a:lnTo>
                <a:arcTo wR="527844" hR="208756" stAng="-4544038" swAng="3704515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3"/>
          <a:srcRect l="13033" t="0" r="0" b="0"/>
          <a:stretch/>
        </p:blipFill>
        <p:spPr>
          <a:xfrm>
            <a:off x="2786040" y="4572000"/>
            <a:ext cx="1785960" cy="1428840"/>
          </a:xfrm>
          <a:prstGeom prst="rect">
            <a:avLst/>
          </a:prstGeom>
          <a:ln w="0">
            <a:noFill/>
          </a:ln>
        </p:spPr>
      </p:pic>
      <p:cxnSp>
        <p:nvCxnSpPr>
          <p:cNvPr id="390" name="Gerade Verbindung mit Pfeil 8"/>
          <p:cNvCxnSpPr/>
          <p:nvPr/>
        </p:nvCxnSpPr>
        <p:spPr>
          <a:xfrm flipH="1">
            <a:off x="1785600" y="3142800"/>
            <a:ext cx="28656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37:21Z</dcterms:created>
  <dc:creator>Admin</dc:creator>
  <dc:description/>
  <dc:language>en-US</dc:language>
  <cp:lastModifiedBy>Admin</cp:lastModifiedBy>
  <dcterms:modified xsi:type="dcterms:W3CDTF">2011-05-26T11:08:01Z</dcterms:modified>
  <cp:revision>52</cp:revision>
  <dc:subject/>
  <dc:title>Multi-Center Study on  Alzheimer’s Disease Using FDG PET: Group and Individual Analyses</dc:title>
</cp:coreProperties>
</file>